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77D1-9035-48A8-BF62-E66750CE46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Past  2) Yes  3) Yes  4) 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3DAA-DAB0-4E4F-842A-01FF5A576F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sible sentences: There used to be/didn’t use to be less/more inequality/unemployment/slavery/global warming. There used to be/didn’t use to be  fewer/more  wars/food allergies. The UK used to have more colonies. More/fewer people used to smo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B495-11A4-40B2-9FCF-39F58F1BF4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1 1/2 hrs: ;vocabulary  20 mins; previewing text &amp; skim reading 10 mins; intensive reading &amp; sequencing 20 mins; intensive reading for true/false 15 mins; grammar focus 5 mins; grammar sentence making 2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EE05-1D9D-4F47-95FA-4215D7DBAA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e   2/f   3/g   4/d   5/h   6/a   7/b  8/c   9/i       You can print out and cut up the words, the picture, and definitions for learners to match phys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4681-7F28-4858-BA16-11B6B3DE9F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ve pairs/groups brainstorm id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0D20-DC52-47C4-9180-12F0983CAA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731B-32D5-42B5-ACC1-3C88DFACF1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e  2) d  3) a  4) g  5) b  6) f  7)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4C34-7C06-4BD3-B626-18B4B9901F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True 2) False 3)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B77B-DBF9-4B36-B5AE-005F816FEF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9B9-2297-4EAB-84B1-72E2FDD4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AED-E072-45A5-B52E-59086AFF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C9D0-1065-4F74-98D8-B54B0714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C87-F605-4FA0-B5B7-A176589F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0FE2-7AFE-44AE-8655-D3C5D806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F60-1114-4044-9FB9-0526E554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CDC-E165-48D8-987E-3870A934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9D9-A5C7-4386-8BAD-279E42C6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84E-B768-43CC-BFF8-00D9E112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941-5F1A-4D73-9FAA-E799C687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83E-C3B8-4929-82DA-8750C8F6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124-CAA8-4092-A388-B8912B88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2B08-7C3E-4593-A850-7141CEC8D1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more_junk_food_in_Indian_schools" TargetMode="External"/><Relationship Id="rId2" Type="http://schemas.openxmlformats.org/officeDocument/2006/relationships/hyperlink" Target="http://eewiki.newint.org/index.php/The_price_of_the_%22right%22_to_alcohol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0000" y="2204640"/>
            <a:ext cx="62643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Fighting for</a:t>
            </a:r>
            <a:br>
              <a:rPr sz="6600"/>
            </a:b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    India’s health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27320" y="404640"/>
            <a:ext cx="6016680" cy="151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244440" y="2133720"/>
            <a:ext cx="32209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Calibri"/>
              </a:rPr>
              <a:t>Answer the questions about a sentence from the article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bout twenty years ago you couldn’t buy imported cigarettes in India. </a:t>
            </a:r>
            <a:r>
              <a:rPr b="1" i="1" lang="en-GB" sz="3200" spc="-1" strike="noStrike">
                <a:solidFill>
                  <a:srgbClr val="0070c0"/>
                </a:solidFill>
                <a:latin typeface="Calibri"/>
              </a:rPr>
              <a:t>Then I used to buy duty-free cigarettes for my friends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who loved Dunhill, Benson &amp; Hedges or Marlboro. Now I wish I hadn’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this about the past, present, or futu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Did she buy cigarettes more than o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as she stopped buying cigaret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</a:t>
            </a:r>
            <a:r>
              <a:rPr b="1" i="1" lang="en-GB" sz="3200" spc="-1" strike="noStrike">
                <a:solidFill>
                  <a:srgbClr val="00b050"/>
                </a:solidFill>
                <a:latin typeface="Calibri"/>
              </a:rPr>
              <a:t>used to</a:t>
            </a: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 followed by the infini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Calibri"/>
              </a:rPr>
              <a:t>Make as many true sentences as you can from the words bel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r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s many 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unem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inequality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didn’t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      fewer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s muc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slavery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global warming 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les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used to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us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colonie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war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UK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have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food allergies       </a:t>
            </a: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 people   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smok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0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 following artic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out Ind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o more junk food in Indian school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more_junk_food_in_Indian_school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price of the “right” to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The_price_of_the_%22right%22_to_alcoh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5448240" y="260280"/>
            <a:ext cx="3583080" cy="239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4"/>
          <a:stretch/>
        </p:blipFill>
        <p:spPr>
          <a:xfrm>
            <a:off x="6585120" y="3933720"/>
            <a:ext cx="24462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b050"/>
                </a:solidFill>
                <a:latin typeface="Calibri"/>
              </a:rPr>
              <a:t>Vocabular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b0f0"/>
                </a:solidFill>
                <a:latin typeface="Calibri"/>
              </a:rPr>
              <a:t>Gramm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8912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Calibri"/>
              </a:rPr>
              <a:t>Match the words to the picture or the meaning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765000"/>
            <a:ext cx="35272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1/ arteri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2/ amputat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3/ operating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theatr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4/ letha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5/ malnourished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6/ tobacco lobb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7/ lung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8/ campaign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9/ adivasi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64000" y="907560"/>
            <a:ext cx="5472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2d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groups who talk to government to get their help with sales of their cigarettes          b)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c)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d) something which  c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kill you is 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e) parts of the body which carry blood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f ) cut off an arm or l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g) room in a hospital for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h) someone who does not get enough food or of the right food can be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i) first peoples of 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7675560" y="1628640"/>
            <a:ext cx="1079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Why do people smok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What are the problems with smoking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30974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000" y="51264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Take 20 seconds to read the first three paragraphs of the article and find the answer to this questio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f0"/>
                </a:solidFill>
                <a:latin typeface="Calibri"/>
              </a:rPr>
              <a:t>Is the article about the effects of smoking in India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867280" y="115920"/>
            <a:ext cx="26370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bout twenty years ago you couldn’t buy imported cigarettes in India. Then I used to buy duty-free cigarettes for my friends who loved Dunhill, Benson &amp; Hedges or Marlboro. Now I wish I hadn’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 stopped in 1984, when I met a 21-year-old adivasi boy. His arteries had become hard and the doctors had to amputate his leg. My husband Stan carried him into the operating theatre and we both cried. A little later, the boy lost his second leg and then he killed himsel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at sounds very unusual. But we saw many adivasis who had amputations because of tobacco. I’m not sure why. Maybe tobacco is more lethal if you have a malnourished body and this starts a very bad re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        Mari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ote the article. Put 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          the sentences in the order th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          happene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a) She decided not to buy cigarettes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b) The Indian boy committed suic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c) She regretted buying cigarettes for her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d) She met an Indian boy who smo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e) She bought cigarettes for her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f) She met many Indian boys who lost their le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g) The Indian boy had two op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603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 the next part of th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ticle. Are thes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ntences true or fal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1) </a:t>
            </a:r>
            <a:r>
              <a:rPr b="1" i="1" lang="en-GB" sz="3200" spc="-1" strike="noStrike">
                <a:solidFill>
                  <a:srgbClr val="00b0f0"/>
                </a:solidFill>
                <a:latin typeface="Calibri"/>
              </a:rPr>
              <a:t>Giant Killers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is part of the campaign again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cigaret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2) 30 years ago everyone was interested in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campa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3) In India today there is a big campaig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against cigaret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875640" y="477720"/>
            <a:ext cx="19443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07760" y="259920"/>
            <a:ext cx="8435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 1991, I met David Cohen, co-author of an anti-tobacco book called </a:t>
            </a: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Giant Killers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. David and others fought big legal battles against the tobacco lobby in the US. Everyone could see how much damage tobacco was doing – so many deaths from cancer, lung damage and very big health costs. And all to make more money for the tobacco industry. The problem was that no-one wanted to listen, not the government, the industry, or people who use tobac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irty years later, I am happy to see a similar battle in India. The Institute of Public Health (IPH), started by Doctors Roopa and Narayanan Devadasan, is fighting for India’s health. The anti-tobacco campaign is one of their many fights. And they already have some good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20:04:22Z</dcterms:created>
  <dc:creator>Linda Ruas</dc:creator>
  <dc:description/>
  <dc:language>en-US</dc:language>
  <cp:lastModifiedBy>Linda Ruas</cp:lastModifiedBy>
  <dcterms:modified xsi:type="dcterms:W3CDTF">2015-05-27T11:54:10Z</dcterms:modified>
  <cp:revision>76</cp:revision>
  <dc:subject/>
  <dc:title>PowerPoint Presentation</dc:title>
</cp:coreProperties>
</file>